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7.gif" ContentType="image/gif"/>
  <Override PartName="/ppt/media/image1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BBB-F3BB-48B2-898A-F92CFD44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FCFB-BFD1-4079-9E9D-ECA93741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E20-4C87-4359-B5EB-166F3AF5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A66-E573-4161-8D41-D7B7F9D7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A95-901F-41DE-B9CB-171CF298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003-F8B9-46B3-8D22-479A5855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5D8-F3D7-4DC8-B4F6-71006CC9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5EA-A03A-4490-BF13-80B4FBEF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EFF-A283-45C8-A8BD-499E6688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282-0B0D-4398-8D6D-B97B332B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036-EB08-469B-8B1C-FF53EF0A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2CC-6F9B-4AE7-AA47-F1AD3EE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14F3-58E5-41F4-BF8A-980D2A7C7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dic.academic.ru/dic.nsf/ruwiki/12969" TargetMode="External"/><Relationship Id="rId3" Type="http://schemas.openxmlformats.org/officeDocument/2006/relationships/hyperlink" Target="http://uztest.ru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590400" y="328680"/>
            <a:ext cx="8205840" cy="4475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489276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аботу  выполнила  ученица  9”б”  клас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Баранова  Виктор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уководитель: учитель математ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ахматулина Р.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2" descr=""/>
          <p:cNvPicPr/>
          <p:nvPr/>
        </p:nvPicPr>
        <p:blipFill>
          <a:blip r:embed="rId1"/>
          <a:stretch/>
        </p:blipFill>
        <p:spPr>
          <a:xfrm>
            <a:off x="536400" y="334800"/>
            <a:ext cx="7650360" cy="884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042560" y="1557000"/>
            <a:ext cx="7643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Арифмети́ческая   прогре́ссия  — числовая последователь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ви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1, 2, 3, 4. 5, … , </a:t>
            </a:r>
            <a:r>
              <a:rPr b="0" lang="en-US" sz="2000" spc="-1" strike="noStrike">
                <a:solidFill>
                  <a:srgbClr val="d60093"/>
                </a:solidFill>
                <a:latin typeface="Book Antiqua"/>
              </a:rPr>
              <a:t>n</a:t>
            </a: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, точне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последовательность чисел  (членов прогрессии), каждое 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которых, начиная со второго, получается из предыдуще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добавлением к нему постоянного числа d (шага или раз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прогрессии). Иначе говоря, любой член прогрессии  может б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вычислен по формул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Шаг прогрессии может быть вычислен по формул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Если шаг d &gt; 0, прогрессия является возрастающей; если  d &lt; 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убывающ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63400e5e9f79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0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3000240" y="3929040"/>
                <a:ext cx="3571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3000240" y="5000760"/>
                <a:ext cx="3786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Rectangle 2" descr=""/>
          <p:cNvPicPr/>
          <p:nvPr/>
        </p:nvPicPr>
        <p:blipFill>
          <a:blip r:embed="rId1"/>
          <a:stretch/>
        </p:blipFill>
        <p:spPr>
          <a:xfrm>
            <a:off x="676440" y="73080"/>
            <a:ext cx="7858080" cy="1407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23640" y="1773360"/>
            <a:ext cx="65530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Задачи на практическую направленнос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1 В третьем тысячелетии високосными годами будут 2008,2012,2016,2020…продолжите, в какой последовательности записаны го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2. В угловом секторе стадиона в первом ряду 7 мест, а в каждом следующем на 2 больше, чем в предыдущем. Сколько мест в 26-м ряд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Такие задачи часто встречаются на ЕГ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d6242d3d52d405bc245ca97c6bad39ed_full"/>
          <p:cNvPicPr/>
          <p:nvPr/>
        </p:nvPicPr>
        <p:blipFill>
          <a:blip r:embed="rId2"/>
          <a:stretch/>
        </p:blipFill>
        <p:spPr>
          <a:xfrm>
            <a:off x="6921360" y="3475080"/>
            <a:ext cx="22226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8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8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8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57120" y="500040"/>
            <a:ext cx="8286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1. Из  предложенных  последовательностей  выберите  ту,  которая  может  являться  арифметической  прогресси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1)   1;  2;  4;  9;  16…           2)   1;  13;  25;  27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3)   3;  9;  27;  81…                4)   3;  3;  3;  3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  почему  остальные  не  могут  являться  арифметической  прогресси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2. Из  предложенных  формул  выберите  ту,  которая  показывает  характеристическое  свойство  арифметической  прогре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3. Последовательность  4;  -6…  является  арифметической  прогрессией.  Какое  из  предложенных  чисел  будет  равно  сумме  восьми первых  ее  член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1)  312;     2)  -248;     3)  77;     4)  -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642960" y="3714840"/>
                <a:ext cx="20001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3071880" y="3643200"/>
                <a:ext cx="1520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п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п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4857840" y="3571920"/>
                <a:ext cx="1571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6572160" y="3714840"/>
                <a:ext cx="1905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2" descr=""/>
          <p:cNvPicPr/>
          <p:nvPr/>
        </p:nvPicPr>
        <p:blipFill>
          <a:blip r:embed="rId1"/>
          <a:stretch/>
        </p:blipFill>
        <p:spPr>
          <a:xfrm>
            <a:off x="676440" y="334800"/>
            <a:ext cx="7656480" cy="884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042560" y="1700280"/>
            <a:ext cx="7643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ОДУ вылова тихоокеанских лососей в промысловых районах Сахалинской области приняла хронический характер и развивается в арифметической прогре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В 4,5 раза больше было выловлено горбуши на восточном побережье Сахалина, чем было определено при разработке общего допустимого улова (ОД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Как сообщили РИА «Восток-Медиа» в управлении информации администрации области, ОДУ была рассчитана в объёме 18,5 тысяч тонн, а фактически  вылов составил 84,914 тыся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428760" y="886320"/>
            <a:ext cx="82152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d60093"/>
                </a:solidFill>
                <a:latin typeface="Arial"/>
                <a:ea typeface="Times New Roman"/>
              </a:rPr>
              <a:t>Новости на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  <a:ea typeface="Times New Roman"/>
              </a:rPr>
              <a:t>Арифметическая прогрессия, состоящая из 24 простых чисел (AP24), обнаружена участником Стефаном Смитановски (Stefan Smietanowski) aka Blast из Швеции. Прогрессия записывается в виде 2725131905640097+1342336*23 #*n, где n=0…23. Это очередной шаг к заветной цели AP26 -- определению арифметической прогрессии, содержащей 26 простых чисел. На сегодняшний день самой длинной арифметической прогрессией, является открытая в мае 2008 года прогрессия из 25 простых чисел (AP25) -- 6171054912832631 + 366384*23#*n, где n=0..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463680" y="781200"/>
            <a:ext cx="8326440" cy="429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prav31"/>
          <p:cNvPicPr/>
          <p:nvPr/>
        </p:nvPicPr>
        <p:blipFill>
          <a:blip r:embed="rId2"/>
          <a:stretch/>
        </p:blipFill>
        <p:spPr>
          <a:xfrm>
            <a:off x="7215120" y="714240"/>
            <a:ext cx="1333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822240" y="407880"/>
            <a:ext cx="7656480" cy="884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971280" y="2205000"/>
            <a:ext cx="7643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Изучена научная литература, ресурсы сети Интернет по исследуемой те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Выявлена роль данной темы при решении некоторых задач, и особенно на ЕГ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Показа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а)  непосредственную связь некоторых элементов треугольника с темой « Арифметическая прогресс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б)   прикладные возможности «Арифметической прогресс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в)   значимость изучения данной темы в школьной програм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4b"/>
          <p:cNvPicPr/>
          <p:nvPr/>
        </p:nvPicPr>
        <p:blipFill>
          <a:blip r:embed="rId2"/>
          <a:stretch/>
        </p:blipFill>
        <p:spPr>
          <a:xfrm>
            <a:off x="6156360" y="0"/>
            <a:ext cx="2987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2" descr=""/>
          <p:cNvPicPr/>
          <p:nvPr/>
        </p:nvPicPr>
        <p:blipFill>
          <a:blip r:embed="rId1"/>
          <a:stretch/>
        </p:blipFill>
        <p:spPr>
          <a:xfrm>
            <a:off x="317520" y="414360"/>
            <a:ext cx="7656480" cy="878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000" y="1700280"/>
            <a:ext cx="8218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Verdana"/>
                <a:ea typeface="돋움"/>
              </a:rPr>
              <a:t>1. Вве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Verdana"/>
                <a:ea typeface="돋움"/>
              </a:rPr>
              <a:t>2. Из истории арифметической прогресс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Verdana"/>
                <a:ea typeface="돋움"/>
              </a:rPr>
              <a:t>3. Немного теор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Verdana"/>
                <a:ea typeface="돋움"/>
              </a:rPr>
              <a:t>4. Вывод форму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Verdana"/>
                <a:ea typeface="돋움"/>
              </a:rPr>
              <a:t>5. Применение тео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Verdana"/>
                <a:ea typeface="돋움"/>
              </a:rPr>
              <a:t>А) При решении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Verdana"/>
                <a:ea typeface="돋움"/>
              </a:rPr>
              <a:t>Б) При изучении алгебры и начала анали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Verdana"/>
                <a:ea typeface="돋움"/>
              </a:rPr>
              <a:t>В) В экономи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Verdana"/>
                <a:ea typeface="돋움"/>
              </a:rPr>
              <a:t>Г) В повседневной жиз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Verdana"/>
                <a:ea typeface="돋움"/>
              </a:rPr>
              <a:t>6. Заключ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Verdana"/>
                <a:ea typeface="돋움"/>
              </a:rPr>
              <a:t>7. Список используемой литератур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Verdana"/>
                <a:ea typeface="돋움"/>
              </a:rPr>
              <a:t>А) Подготовка к ЕГЭ- 2010 Ф.Ф.Лысен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Verdana"/>
                <a:ea typeface="돋움"/>
              </a:rPr>
              <a:t>Б) Энциклопедический словарь юного математ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Verdana"/>
                <a:ea typeface="돋움"/>
              </a:rPr>
              <a:t>В) Ресурсы сети Интерн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ea typeface="돋움"/>
                <a:hlinkClick r:id="rId2"/>
              </a:rPr>
              <a:t>http://dic.academic.ru/dic.nsf/ruwiki/129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ea typeface="돋움"/>
                <a:hlinkClick r:id="rId3"/>
              </a:rPr>
              <a:t>http://uztest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26066974_1"/>
          <p:cNvPicPr/>
          <p:nvPr/>
        </p:nvPicPr>
        <p:blipFill>
          <a:blip r:embed="rId4"/>
          <a:stretch/>
        </p:blipFill>
        <p:spPr>
          <a:xfrm>
            <a:off x="6264360" y="0"/>
            <a:ext cx="2879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1"/>
          <a:stretch/>
        </p:blipFill>
        <p:spPr>
          <a:xfrm>
            <a:off x="317520" y="49320"/>
            <a:ext cx="7656480" cy="884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000" y="1341000"/>
            <a:ext cx="8218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Franklin Gothic Medium Cond"/>
              </a:rPr>
              <a:t>       </a:t>
            </a:r>
            <a:r>
              <a:rPr b="0" lang="ru-RU" sz="2400" spc="-1" strike="noStrike">
                <a:solidFill>
                  <a:srgbClr val="d60093"/>
                </a:solidFill>
                <a:latin typeface="Franklin Gothic Medium Cond"/>
              </a:rPr>
              <a:t>Обсуждая предмет математики, обычно принято делить ее на две условные ча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Franklin Gothic Medium Cond"/>
              </a:rPr>
              <a:t>    </a:t>
            </a:r>
            <a:r>
              <a:rPr b="0" lang="ru-RU" sz="2400" spc="-1" strike="noStrike">
                <a:solidFill>
                  <a:srgbClr val="d60093"/>
                </a:solidFill>
                <a:latin typeface="Franklin Gothic Medium Cond"/>
              </a:rPr>
              <a:t>1. Элементарная матема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Franklin Gothic Medium Cond"/>
              </a:rPr>
              <a:t>    </a:t>
            </a:r>
            <a:r>
              <a:rPr b="0" lang="ru-RU" sz="2400" spc="-1" strike="noStrike">
                <a:solidFill>
                  <a:srgbClr val="d60093"/>
                </a:solidFill>
                <a:latin typeface="Franklin Gothic Medium Cond"/>
              </a:rPr>
              <a:t>2.Высшая матема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Franklin Gothic Medium Cond"/>
              </a:rPr>
              <a:t>        </a:t>
            </a:r>
            <a:r>
              <a:rPr b="0" lang="ru-RU" sz="2400" spc="-1" strike="noStrike">
                <a:solidFill>
                  <a:srgbClr val="d60093"/>
                </a:solidFill>
                <a:latin typeface="Franklin Gothic Medium Cond"/>
              </a:rPr>
              <a:t>В русском языке прилагательное «элементарная» имеет некоторый  уничтожительный   смысл для математики. Оно означает нечто очень простое, «школьное», недостойное внимания серьезных ученых. Однако в английском языке слово «</a:t>
            </a:r>
            <a:r>
              <a:rPr b="0" lang="en-GB" sz="2400" spc="-1" strike="noStrike">
                <a:solidFill>
                  <a:srgbClr val="d60093"/>
                </a:solidFill>
                <a:latin typeface="Franklin Gothic Medium Cond"/>
              </a:rPr>
              <a:t>Elements</a:t>
            </a:r>
            <a:r>
              <a:rPr b="0" lang="ru-RU" sz="2400" spc="-1" strike="noStrike">
                <a:solidFill>
                  <a:srgbClr val="d60093"/>
                </a:solidFill>
                <a:latin typeface="Franklin Gothic Medium Cond"/>
              </a:rPr>
              <a:t>» имеет совершенно другой смысл. В переводе оно означает «основы» (науки), «азы», «святые дары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463680" y="622440"/>
            <a:ext cx="7656480" cy="88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-360" y="1785960"/>
            <a:ext cx="764388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Исследование связи между определенными элементами в треугольнике и формул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Uchenik"/>
          <p:cNvPicPr/>
          <p:nvPr/>
        </p:nvPicPr>
        <p:blipFill>
          <a:blip r:embed="rId2"/>
          <a:stretch/>
        </p:blipFill>
        <p:spPr>
          <a:xfrm>
            <a:off x="5334120" y="3276720"/>
            <a:ext cx="3809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2" descr=""/>
          <p:cNvPicPr/>
          <p:nvPr/>
        </p:nvPicPr>
        <p:blipFill>
          <a:blip r:embed="rId1"/>
          <a:stretch/>
        </p:blipFill>
        <p:spPr>
          <a:xfrm>
            <a:off x="603360" y="334800"/>
            <a:ext cx="7656480" cy="884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042560" y="1356840"/>
            <a:ext cx="7643880" cy="54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1.Изучить научную литературу, ресурсы сети Интер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по  исследуемой те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2. Показа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а)непосредственную связь некоторых эле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треугольника с темой «Арифметическая прогресс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б) Прикладные возможности «Арифметиче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прогресси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в) Значимость изучения данной темы в школь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программ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3. Выявить роль данной темы при решении некоторых задач, и  особенно на ЕГ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603360" y="285840"/>
            <a:ext cx="7656480" cy="114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23640" y="1484280"/>
            <a:ext cx="73436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74600" indent="-174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В клинописных таблицах вавилонян в египетских пирамид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(второй век до н.в.) встречаются приме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арифметический прогресс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Задачи  на прогрессии, дошедшие до нас из древ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были связаны с запросами хозяйственной жиз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распределение продуктов, деление наследства и др. Некотор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формулы, относящиеся к прогрессиям, были извест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китайским и индийским ученым. Ариабхатта (5 в.)применя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формулы общего числа, суммы арифметической прогресс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Но правило для нахождения суммы членов арифметичес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прогрессии впервые встречается  в сочинении «Книги Абака»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1202 г.(Леонардо Пизански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4" descr="prav31"/>
          <p:cNvPicPr/>
          <p:nvPr/>
        </p:nvPicPr>
        <p:blipFill>
          <a:blip r:embed="rId2"/>
          <a:stretch/>
        </p:blipFill>
        <p:spPr>
          <a:xfrm>
            <a:off x="7810560" y="142920"/>
            <a:ext cx="1333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5" descr=""/>
          <p:cNvPicPr/>
          <p:nvPr/>
        </p:nvPicPr>
        <p:blipFill>
          <a:blip r:embed="rId1"/>
          <a:stretch/>
        </p:blipFill>
        <p:spPr>
          <a:xfrm>
            <a:off x="1908000" y="5278320"/>
            <a:ext cx="4254840" cy="1586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610920" y="115560"/>
            <a:ext cx="76438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Большой популярностью даже в наши дни пользуются магические квадраты. Это квадраты, в каждую клетку которых вписаны числа так, что суммы  чисел вдоль любой горизонтали , любой вертикали и любой диагонали равны. Такой магический квадрат изображен на гравюре немецкого художника А.Дюрера «Меланхол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427px-Duerer01"/>
          <p:cNvPicPr/>
          <p:nvPr/>
        </p:nvPicPr>
        <p:blipFill>
          <a:blip r:embed="rId2"/>
          <a:stretch/>
        </p:blipFill>
        <p:spPr>
          <a:xfrm>
            <a:off x="0" y="4114800"/>
            <a:ext cx="195264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82678"/>
          <p:cNvPicPr/>
          <p:nvPr/>
        </p:nvPicPr>
        <p:blipFill>
          <a:blip r:embed="rId3"/>
          <a:stretch/>
        </p:blipFill>
        <p:spPr>
          <a:xfrm>
            <a:off x="5975280" y="3745080"/>
            <a:ext cx="31687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42560" y="836280"/>
            <a:ext cx="7643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С формулой связан интересный эпизод из жизни немецкого математика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К.Ф.Гаусса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(1777- 1855). Когда ему было 9 лет, учитель, занятый проверкой работ учеников других классов, задал на уроке следующую задачу: «Сосчитать сумму всех натуральных чисел от 1 до 110 включительно: 1+2+3+4+5+…+100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Каково же было  удивление учителя, когда один из участников (это был  Гаусс) через минуту воскликнул : «Я уже решил». Большинство учеников после подсчетов получили неверный результат. В тетради Гаусса было только одно число =5050, но зато верн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8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42560" y="691920"/>
            <a:ext cx="76438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Вот схема его рассуждений. Сумма чисел в каждой паре равна 10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1            2             3           …            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100       99           98          …             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101        101        101       101           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Таких пар 50, поэтому искомая сумма равна 101*50=5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Из этого факта произошла формула арифметической прогресс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0165421271"/>
          <p:cNvPicPr/>
          <p:nvPr/>
        </p:nvPicPr>
        <p:blipFill>
          <a:blip r:embed="rId1"/>
          <a:stretch/>
        </p:blipFill>
        <p:spPr>
          <a:xfrm>
            <a:off x="2627280" y="5229360"/>
            <a:ext cx="4824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8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8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4:02:55Z</dcterms:created>
  <dc:creator>Виктория</dc:creator>
  <dc:description/>
  <dc:language>en-US</dc:language>
  <cp:lastModifiedBy>User</cp:lastModifiedBy>
  <dcterms:modified xsi:type="dcterms:W3CDTF">2011-01-29T17:48:25Z</dcterms:modified>
  <cp:revision>29</cp:revision>
  <dc:subject/>
  <dc:title>БАРАНОВА ВИКТОРИЯ</dc:title>
</cp:coreProperties>
</file>